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DD0D-5593-4B1E-9AEB-3D0D85D0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1A5D-0DB6-4F5D-981A-A2B18B17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2B8A-7A4F-425E-9A74-205035B0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C427-C55B-4DCE-9047-246A9C4F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F8E1-E631-428D-A1BF-1C268BA57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40AB-3DC4-41E4-BC49-929C12CA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05A-593B-420C-BF9C-0C20EC1D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2E4-BA49-45B7-A03E-C5E8C502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5CC-363D-4113-B261-DB0C98CE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6F1-F77C-4C1C-BEAF-B285639F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F70-2574-409A-B9C8-79C56F94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FBD-3AE2-458F-AB6C-2C325744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EA7-42A6-4C7C-AA92-A82C64A3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E3B-A481-4886-BD7A-CBF0A5A6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988C-14FE-4294-8B91-93A0A304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5A9D-3206-46F6-A6B0-ED00ECAF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5C9-3820-4B6F-A0A8-B6AD317C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E0DB-DF0D-4408-9EB7-C5BB6F25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688-2D4C-46E9-9DFF-28FF6AAE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35AA-C865-4431-B5F3-F6FB6FF8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A68D-C98F-42C8-AC37-2AFC4D52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4D7-214D-48D1-87B2-E51AE7C0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913-4FEE-4840-BDAD-F23DFCEC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2126-0FCB-4F49-942E-0920EBCA3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4C9A-E1D5-4A1E-A2BE-9FB9FD6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7692-CFEC-4C91-9AB5-1A42F3AB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77B0-8F3C-4371-9A5A-9B5125141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D566-6594-45B3-B420-FA49B15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888E-8E14-4840-9E4B-A09D0EE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1EC7-42D4-4BEE-8A07-47896EE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2579-4C8B-4304-8BE4-78B6739F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2A26-862C-4C27-B1E8-3FF2DFAB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027E-AC3F-434C-9223-10652171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B619-6DB7-4BDB-9D11-1A192E1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406A-B2A9-4486-AC2D-2A228D2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ectionContentSlide-rev-notext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22880" y="61718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36ED40B-38C5-4658-A848-FF6BD299F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320" y="4752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ion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943280" y="1332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hydrates, Fats, and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1295280" y="60199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HPE-CopyRightSymbol"/>
          <p:cNvPicPr/>
          <p:nvPr/>
        </p:nvPicPr>
        <p:blipFill>
          <a:blip r:embed="rId3"/>
          <a:stretch/>
        </p:blipFill>
        <p:spPr>
          <a:xfrm>
            <a:off x="6083280" y="6519960"/>
            <a:ext cx="2751120" cy="11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V15Z-yyiVg" TargetMode="External"/><Relationship Id="rId2" Type="http://schemas.openxmlformats.org/officeDocument/2006/relationships/hyperlink" Target="https://www.youtube.com/watch?v=VEQaH4LruUo" TargetMode="External"/><Relationship Id="rId3" Type="http://schemas.openxmlformats.org/officeDocument/2006/relationships/hyperlink" Target="https://www.youtube.com/watch?v=wxzc_2c6GMg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c0014"/>
                </a:solidFill>
                <a:latin typeface="Arial"/>
              </a:rPr>
              <a:t>video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d d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8V15Z-yyi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l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VEQaH4Lru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wxzc_2c6G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A74D1FA-048B-4693-B5A3-6D5E73D265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17378F7-CA24-40A1-A556-FEBBA9B81C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are nutrients made of carbon, hydrogen, and oxyg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38080" y="214956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supply energy for your bo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is the main source of energy for the body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EF785FC-92EC-4CDF-B237-0D20317925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38080" y="1295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arbohydrates are sugars that enter the bloodstream rapidly and provide quick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imple carbs provide calories but few vitamins and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Simple Carbohydrate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533520" y="2971800"/>
            <a:ext cx="7848360" cy="2762280"/>
            <a:chOff x="533520" y="2971800"/>
            <a:chExt cx="7848360" cy="2762280"/>
          </a:xfrm>
        </p:grpSpPr>
        <p:sp>
          <p:nvSpPr>
            <p:cNvPr id="106" name="Rectangle 11"/>
            <p:cNvSpPr/>
            <p:nvPr/>
          </p:nvSpPr>
          <p:spPr>
            <a:xfrm>
              <a:off x="838080" y="3811320"/>
              <a:ext cx="754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lex carbohydrates are made up of sugars that are linked together chemically to form long ch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ch – a food substance that is made and stored in most p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rovide long-lasting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33520" y="2971800"/>
              <a:ext cx="7772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48a"/>
                  </a:solidFill>
                  <a:latin typeface="Arial"/>
                </a:rPr>
                <a:t>Complex Carbohydr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arbohydrates can be…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ugars added to cookies, candies, soft d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rains (bread &amp; p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 (potatoes &amp;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-wheat r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EF78340-607D-4620-B1C1-0370B13572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2D5B461-7EE3-445A-9B94-948FD073C8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45-65% of a per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aily calorie intake come from carbohyd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Carbohydrate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18" name="Picture 10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838080" y="2470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tter to eat foods rich in complex carbohydrates rather than simple carbohyd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0C581CC-0C88-4BC5-8D6C-5C39D2DA9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is a type of complex carbohydrate that is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Fiber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23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52480" y="2120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-fiber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38080" y="35053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y help prevent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 of grains and plant foods that cannot be digested i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39160" y="3043080"/>
            <a:ext cx="56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y reduce the risk of colo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841320" y="258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elps prevent 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Insoluble vs Soluble Fiber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with water to help produce bowel movements (prevent constip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reduced risk of colon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urces: wheat products, leafy vegetables, and fr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7524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foods with soluble fiber reduces your blood cholesterol level and your risk of developing hear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urces: wheat, bran, barley, rye, oats, whole grain pasta,breads, cerea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8781D0E-4FA8-4747-958F-A66D86CAC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841C18E-71C0-4DD1-9363-49E6FFB22E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1295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are made of carbon, hydrogen,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38080" y="17524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supply your body with energy, form your cells, maintain body temperature, and protect your n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provides energy and helps the body store and use vitamin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D43F41B-1B17-45ED-8D30-64276654F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83808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t least one unsaturated bond in a place where hydrogen can be added to the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Unsaturated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42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838080" y="2470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aturated fats are usually liqu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38080" y="32925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aturated fats are classified as either monounsaturated fats or polyunsaturated f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DE9F649-72E6-4475-A199-54EB313F2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that have all the hydrogen the carbon atoms can hold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rated f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Saturated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48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838080" y="2133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ed fats are usually sol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38080" y="2590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saturated fat in your diet can lead to hear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61306C3-AE20-4050-8989-6B1CB7B6AD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20-35% of your calories come from fat, primarily unsaturated f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Fat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F7E7427-DBCF-497E-9B30-8746DA50D7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PE-SectionOpener-PPS_TopPart"/>
          <p:cNvPicPr/>
          <p:nvPr/>
        </p:nvPicPr>
        <p:blipFill>
          <a:blip r:embed="rId1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59000" y="985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2120" y="1447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classes of nutrients that supply your body with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62120" y="2101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body obtains energy from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lackTriangleforPPS"/>
          <p:cNvPicPr/>
          <p:nvPr/>
        </p:nvPicPr>
        <p:blipFill>
          <a:blip r:embed="rId2"/>
          <a:stretch/>
        </p:blipFill>
        <p:spPr>
          <a:xfrm>
            <a:off x="549360" y="153504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lackTriangleforPPS"/>
          <p:cNvPicPr/>
          <p:nvPr/>
        </p:nvPicPr>
        <p:blipFill>
          <a:blip r:embed="rId3"/>
          <a:stretch/>
        </p:blipFill>
        <p:spPr>
          <a:xfrm>
            <a:off x="549360" y="2184480"/>
            <a:ext cx="237960" cy="217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76320" y="4752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ion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943280" y="21276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hydrates, Fats, and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2120" y="2819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s that carbohydrates, fats, and proteins play in you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BlackTriangleforPPS"/>
          <p:cNvPicPr/>
          <p:nvPr/>
        </p:nvPicPr>
        <p:blipFill>
          <a:blip r:embed="rId4"/>
          <a:stretch/>
        </p:blipFill>
        <p:spPr>
          <a:xfrm>
            <a:off x="549360" y="2901960"/>
            <a:ext cx="2379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B33D338-5011-4EB8-A5D5-AE1CA5CA64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s are made when manufacturers add hydrogen to the fat molecules in vegetable 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Trans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57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838080" y="2141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s are found in margarine, chips, and commercially bak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38080" y="2987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 seems to have many of the negatives of saturated f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0A93AD7-7AAD-4E48-A631-326DFE498A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Protein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38080" y="2149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can serve as a source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838080" y="2590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is needed for growth, and to build and repair body tissue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 that contain nitrogen as well as carbon, hydrogen, and oxygen are calle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3F69035-61E9-4C44-9E05-0BDC1F4EE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long chains of smalle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bound together che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69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838080" y="21337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maller substances are known as ami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 blocks that make up protei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45F508D-78A7-4874-B87B-CAFBB011B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10-35% percent of your calories come from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Protein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33520" y="2209680"/>
            <a:ext cx="7848360" cy="1724760"/>
            <a:chOff x="533520" y="2209680"/>
            <a:chExt cx="7848360" cy="1724760"/>
          </a:xfrm>
        </p:grpSpPr>
        <p:sp>
          <p:nvSpPr>
            <p:cNvPr id="175" name="Rectangle 8"/>
            <p:cNvSpPr/>
            <p:nvPr/>
          </p:nvSpPr>
          <p:spPr>
            <a:xfrm>
              <a:off x="838080" y="274320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ople who don’t eat meat can combine two or more plant protein sources that, taken together, provide all the essential amino acid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533520" y="22096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48a"/>
                  </a:solidFill>
                  <a:latin typeface="Arial"/>
                </a:rPr>
                <a:t>Proteins for Vegetari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1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A7ADA6F-520E-4017-B293-FE17A30B5B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ance in foods that the body needs to regulate bodily functions, promote growth, repair body tissues, and obtain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80880" y="2433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895480" y="24336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emical process by which the body breaks down food to release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80880" y="3268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2688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for the amount of energy released when nutrients are broken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80880" y="410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895480" y="41022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made of carbon, hydrogen, and oxygen and that supplies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80880" y="4937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895480" y="493704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dealing with an uncomfortable or unbearable feeling or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DF3AFAD-D2F4-4886-8FBC-BD1F45929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241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aturated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895480" y="24130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t with at least one unsaturated bond in a place where hydrogen can be added to the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80880" y="3530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ated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895480" y="353052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t that has all the hydrogen the carbon atoms can hold. A fat that has all the hydrogen the carbon atoms can h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0880" y="4648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895480" y="464832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xy, fatlike substance that is found only in animal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made of carbon, hydrogen, and oxygen; supplies energy, forms cells, maintains body temperature, and protects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79C0BDB-A897-4EC4-A789-E3A10E060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0880" y="2468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895480" y="246852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that contains nitrogen as well as carbon, hydrogen, and oxygen; needed for the growth and repair of body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0880" y="3641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895480" y="364176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units that are bound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ly to form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 of fat produced when manufacturers add hydrogen to the fat molecules in vegetable o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ich 3 classes of nutrients supply the body with energy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 the term metabolism.  How is metabolism related to the nutrients in food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roles do the following nutrients play in the body? A. carbohydrates B. fats C. prote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do saturated fats differ from unsaturated fats? Name 2 sources of each type of f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se that you ate 2,500 calories/day.  Of those calories, 1,200 calories were from carbs, 875 from fats, and the rest from protein.  What % of your total day’s calories came from carbs, from fats, and from protein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CE4B8E6-209B-46EB-8301-CD3958924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Nutrition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processes by which humans, animals, and plants consume and use foo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DB69C6B-F5C7-4474-8C4E-E24A8DF24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18B9F1D-38CE-4980-8FFA-C1D44154E9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83808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upplies your body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en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in food that helps with body processes (regulate bodily functions, promote growth, repair body tissues, and obtain energ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oods Supply Nutrien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838080" y="28353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classes of nutrients: carbohydrates, fats, proteins, vitamins, minerals,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838080" y="3673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, fats, and proteins can all be used by the body as source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9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A3B6D3F-0FF0-44F8-9B13-DD192964BD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8080" y="1295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s you eat are your bo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nergy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oods Supply Energ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38080" y="1784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energy to maintain your body temperature, keep your heart beating, and enable you to understand what you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B0E5E00-C460-49DC-A345-C70DBD1E0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3808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r body uses the nutrients in foods, a series of chemical reactions occurs inside your cells.  As a result, energy is rele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Fuel for Your Bod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2530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hemical process by which your body breaks down food to release a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838080" y="3429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sm also involves the use of this energy for growth and repair of body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1E93E25-345A-47D9-AD87-DA8256A6A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energy released when nutrients are broken down is measured in uni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What are Calories?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8080" y="21495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alories a food has, the more energy it co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C87677F-67E0-424D-82B1-B1B5D390E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h8pge193-Lunch1"/>
          <p:cNvPicPr/>
          <p:nvPr/>
        </p:nvPicPr>
        <p:blipFill>
          <a:blip r:embed="rId1"/>
          <a:stretch/>
        </p:blipFill>
        <p:spPr>
          <a:xfrm>
            <a:off x="2457360" y="1371600"/>
            <a:ext cx="4235400" cy="464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h8pge193-Lunch-title"/>
          <p:cNvPicPr/>
          <p:nvPr/>
        </p:nvPicPr>
        <p:blipFill>
          <a:blip r:embed="rId2"/>
          <a:stretch/>
        </p:blipFill>
        <p:spPr>
          <a:xfrm>
            <a:off x="2286000" y="762120"/>
            <a:ext cx="447372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39FD9EC-02B1-40A5-A971-A9FFF44B16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h8pge193-Lunch2"/>
          <p:cNvPicPr/>
          <p:nvPr/>
        </p:nvPicPr>
        <p:blipFill>
          <a:blip r:embed="rId1"/>
          <a:stretch/>
        </p:blipFill>
        <p:spPr>
          <a:xfrm>
            <a:off x="1936800" y="1219320"/>
            <a:ext cx="5275080" cy="482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h8pge193-Lunch-title"/>
          <p:cNvPicPr/>
          <p:nvPr/>
        </p:nvPicPr>
        <p:blipFill>
          <a:blip r:embed="rId2"/>
          <a:stretch/>
        </p:blipFill>
        <p:spPr>
          <a:xfrm>
            <a:off x="2286000" y="762120"/>
            <a:ext cx="447372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40:25Z</dcterms:created>
  <dc:creator>John Perry</dc:creator>
  <dc:description/>
  <dc:language>en-US</dc:language>
  <cp:lastModifiedBy>Sean</cp:lastModifiedBy>
  <dcterms:modified xsi:type="dcterms:W3CDTF">2017-06-14T14:39:21Z</dcterms:modified>
  <cp:revision>193</cp:revision>
  <dc:subject/>
  <dc:title>PowerPoint Presentation</dc:title>
</cp:coreProperties>
</file>